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6F659-2FC1-4791-8E1A-DEA3BFC2F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3680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0032-F991-4AFD-83C6-B21E8C7F7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822E4-3DF6-42AE-84CC-B6A74B973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3680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73680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73680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E7810-2FBB-4B21-9974-D2C11B4468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1D513-2C6B-40F2-A2EF-4002C4EC4F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3AC14-59B5-4A94-9FF9-B3CAACB7A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DD04D-7C84-4D3F-816E-63BEF549E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C1CC5-ABE7-44C1-9809-37F05DD8D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CBB43-0A9E-432B-8C4E-007BAD78B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620A1-2145-4960-9D6E-C0341B146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2EFE3-6B5D-423F-8164-515EA860C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3680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C987F-2237-453B-92D8-8F4622B66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400440"/>
            <a:ext cx="1981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Verdana"/>
              </a:rPr>
              <a:t>Sven O. Rimmelspa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4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786F-683F-4642-BCC8-9C7EC66FFD4D}" type="slidenum">
              <a:rPr b="0" lang="de-D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83808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4008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Verdana"/>
              </a:rPr>
              <a:t>Gupta Developer Conference Munich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00"/>
                </a:solidFill>
                <a:latin typeface="Verdana"/>
              </a:rPr>
              <a:t>CDK For Beginners</a:t>
            </a:r>
            <a:endParaRPr b="1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3885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A Short Introduction with Samp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Gupta Developer Conference Munich 200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Sven O. Rimmelspac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1337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00"/>
                </a:solidFill>
                <a:latin typeface="Verdana"/>
              </a:rPr>
              <a:t>Component Developer</a:t>
            </a: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1" lang="de-DE" sz="4000" spc="-1" strike="noStrike">
                <a:solidFill>
                  <a:srgbClr val="ffff00"/>
                </a:solidFill>
                <a:latin typeface="Verdana"/>
              </a:rPr>
              <a:t>s K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FEF18-08C1-415D-A3CF-55406285DF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CDK Structure Visual Classes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3353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Object hierarchy of the visual clas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Expect the statics, all classes are derived from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cdkWindow</a:t>
            </a: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Windows and tables are all contain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Sure it's no problem to derive your own classes for your own purpo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429000" y="892080"/>
          <a:ext cx="5638680" cy="54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892080"/>
                    <a:ext cx="563868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86C07-6AE3-4B78-A131-81330D7561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L CDK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The outline items are identified using predefined constants (there are some constants missing, define the on your ow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35268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ere is a functional class for every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e functional classes are basically wrappers around the CDK D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2262240"/>
            <a:ext cx="708660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Courier New"/>
              </a:rPr>
              <a:t>Number: CDK_IT_AbsScreenLocation = 0x00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Courier New"/>
              </a:rPr>
              <a:t>Number: CDK_IT_AccesoriesEnabled = 0x01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Courier New"/>
              </a:rPr>
              <a:t>Number: CDK_IT_ActionsBlock = 0x00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4724280"/>
            <a:ext cx="7315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Courier New"/>
              </a:rPr>
              <a:t>Functional Class: cdkAction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Courier New"/>
              </a:rPr>
              <a:t>Functional Class: cdkActiv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Courier New"/>
              </a:rPr>
              <a:t>Functional Class: cdk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Courier New"/>
              </a:rPr>
              <a:t>Functional Class: cdk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Courier New"/>
              </a:rPr>
              <a:t>Functional Class: cdk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B11C7-AB5D-48D2-83E2-38EECDBE91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C++ CDK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e C++CDK is (at least parts of it) is very nicely designed using object oriented design patterns, which you can find for example in Erich Gamma's book </a:t>
            </a:r>
            <a:r>
              <a:rPr b="0" i="1" lang="de-DE" sz="2400" spc="-1" strike="noStrike">
                <a:solidFill>
                  <a:srgbClr val="ffffff"/>
                </a:solidFill>
                <a:latin typeface="Verdana"/>
              </a:rPr>
              <a:t>Design Patter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ese patterns are (among other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Iter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Visi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Some parts are old style compared to the SAL CD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e source code is not delivered anymore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Later we will see a real exam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637E5-8034-44C2-9CB2-CEC95C70AC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mples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When you install the CDK with CTD, you can choose to install also some CDK samples, which is a very good source to understand the CDK and learn fro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e samples ar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Create and manipulate contro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Remove debug co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Runtime Inspec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class docum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Notify sample for user a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Quick Object samp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And mo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CE93C-8DB6-498A-8E8A-93E50AA132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mple 1: Properties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With this sample we create the properties </a:t>
            </a:r>
            <a:r>
              <a:rPr b="1" lang="de-DE" sz="2800" spc="-1" strike="noStrike">
                <a:solidFill>
                  <a:srgbClr val="ffff00"/>
                </a:solidFill>
                <a:latin typeface="Courier New"/>
              </a:rPr>
              <a:t>TooltipText</a:t>
            </a:r>
            <a:r>
              <a:rPr b="0" lang="de-DE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de-DE" sz="2800" spc="-1" strike="noStrike">
                <a:solidFill>
                  <a:srgbClr val="ffff00"/>
                </a:solidFill>
                <a:latin typeface="Courier New"/>
              </a:rPr>
              <a:t>StatusText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for a control using a property dialo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Once a control is created (e. g. a data field) the property dialog is called, you enter the data and the properties are crea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At runtime you can access the properties and the contents is used and show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Always same workflo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Properties aqre not forgott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Simplifying the co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C26B7-6EF0-4288-A932-0ED3992BC9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mple 1: Property Program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990720"/>
            <a:ext cx="83822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Application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On SAM_AppStar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b2b2b2"/>
                </a:solidFill>
                <a:latin typeface="Courier New"/>
              </a:rPr>
              <a:t>! i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Call CDK_App.InitializeFramework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Call CDK_App.DisplayModalWindo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On SAM_AppEx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Call CDK_App.CloseApp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Call CDK_App.CloseFrameWork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And be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Data Field: dfTooltip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Data Field: dfStatus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Pushbutton: pb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On SAM_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b2b2b2"/>
                </a:solidFill>
                <a:latin typeface="Courier New"/>
              </a:rPr>
              <a:t>! init object in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Call aWindow.InitializeFromObject( CDK_Window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b2b2b2"/>
                </a:solidFill>
                <a:latin typeface="Courier New"/>
              </a:rPr>
              <a:t>! set the properties, just </a:t>
            </a:r>
            <a:r>
              <a:rPr b="1" i="1" lang="de-DE" sz="1600" spc="-1" strike="noStrike">
                <a:solidFill>
                  <a:srgbClr val="b2b2b2"/>
                </a:solidFill>
                <a:latin typeface="Courier New"/>
              </a:rPr>
              <a:t>invent</a:t>
            </a:r>
            <a:r>
              <a:rPr b="1" lang="de-DE" sz="1600" spc="-1" strike="noStrike">
                <a:solidFill>
                  <a:srgbClr val="b2b2b2"/>
                </a:solidFill>
                <a:latin typeface="Courier New"/>
              </a:rPr>
              <a:t> the name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Call aWindow.SetStrProperty( „TooltipText", dfTooltipTex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Call aWindow.SetStrProperty( "StatusText", dfStatusTex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124080" cy="23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69127-3E7F-4336-899F-321774EF3B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mple 1: Host Program 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A class is defined in the host application 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ata Field Class: c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On SAM_Crea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retrieve and init the properti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all SalWindowGetProperty( hWndItem, "TooltipText", m_sTooltip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all SalWindowGetProperty( hWndItem, "StatusText", m_sStatus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all TTAddTool( hWndItem, m_sTooltip, 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m_sStatus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... we call the QuickObjec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editor for setting up th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Property appli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(menu Component|QuickObject Editor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38680" y="3121200"/>
            <a:ext cx="3343320" cy="3209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50160" y="6019920"/>
            <a:ext cx="451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00"/>
                </a:solidFill>
                <a:latin typeface="Courier New"/>
              </a:rPr>
              <a:t>CDK_App.DisplayModalWindow()</a:t>
            </a:r>
            <a:r>
              <a:rPr b="1" lang="de-DE" sz="1200" spc="-1" strike="noStrike">
                <a:solidFill>
                  <a:srgbClr val="ffffff"/>
                </a:solidFill>
                <a:latin typeface="Verdana"/>
              </a:rPr>
              <a:t> calls this 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343400" y="4114440"/>
            <a:ext cx="2514600" cy="1981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BDEF8-4AB6-4177-9854-5E7D9F6E9E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mple 1: Host Application I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53200" y="3352680"/>
            <a:ext cx="2495520" cy="2019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Once you create an instance of the class, the assigned property dialog is called which creates then the properties for the calling contro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705720" y="1219320"/>
            <a:ext cx="2224080" cy="1990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1440000">
            <a:off x="7314840" y="2819160"/>
            <a:ext cx="228600" cy="1752480"/>
          </a:xfrm>
          <a:custGeom>
            <a:avLst/>
            <a:gdLst>
              <a:gd name="textAreaLeft" fmla="*/ 30600 w 228600"/>
              <a:gd name="textAreaRight" fmla="*/ 198000 w 228600"/>
              <a:gd name="textAreaTop" fmla="*/ 344880 h 1752480"/>
              <a:gd name="textAreaBottom" fmla="*/ 12524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00" stAng="-5400000" swAng="5400000"/>
                <a:lnTo>
                  <a:pt x="21600" y="11186"/>
                </a:lnTo>
                <a:arcTo wR="21600" hR="8500" stAng="0" swAng="2883730"/>
                <a:lnTo>
                  <a:pt x="7200" y="21114"/>
                </a:lnTo>
                <a:lnTo>
                  <a:pt x="0" y="18343"/>
                </a:lnTo>
                <a:lnTo>
                  <a:pt x="7200" y="14600"/>
                </a:lnTo>
                <a:lnTo>
                  <a:pt x="7200" y="16514"/>
                </a:lnTo>
                <a:arcTo wR="21600" hR="8500" stAng="2883730" swAng="-2667551"/>
                <a:lnTo>
                  <a:pt x="21329" y="9843"/>
                </a:lnTo>
                <a:arcTo wR="21600" hR="8500" stAng="-216179" swAng="-5183821"/>
                <a:close/>
              </a:path>
              <a:path fill="darkenLess" w="21600" h="21600">
                <a:moveTo>
                  <a:pt x="0" y="0"/>
                </a:moveTo>
                <a:arcTo wR="21600" hR="8500" stAng="-5400000" swAng="5400000"/>
                <a:lnTo>
                  <a:pt x="21600" y="11186"/>
                </a:lnTo>
                <a:arcTo wR="21600" hR="8500" stAng="0" swAng="-216179"/>
                <a:lnTo>
                  <a:pt x="21329" y="9843"/>
                </a:lnTo>
                <a:arcTo wR="21600" hR="8500" stAng="-216179" swAng="-5183821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3886200"/>
            <a:ext cx="32767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Alternatively the property dialog can be called using the context menu, which contains a new menu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603600" y="3657600"/>
            <a:ext cx="1501920" cy="2565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486480" y="4495680"/>
            <a:ext cx="2124000" cy="159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0A925-BFD9-477C-B893-AB23A2A46B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mple 1: Host Application II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When you execute the host application you can access the properties and use them as desi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362320"/>
            <a:ext cx="4953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With this simple example, we see how easy it is to define your own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is concept can easily be enhanced to meet your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486400" y="2532240"/>
            <a:ext cx="3375000" cy="27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11E42-CADB-427D-8EBF-331E227584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mple 1: Host Application IV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e properties are stored fixed in the c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If you look for it you can find the values in the SQLWindows f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457440"/>
            <a:ext cx="792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.head 4 -  Property Template: Example1Prop.ex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           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dlgTooltipStatusProps,Tooltip and Status Text,,Y,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5029200"/>
            <a:ext cx="80769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00"/>
                </a:solidFill>
                <a:latin typeface="Courier New"/>
              </a:rPr>
              <a:t>.data CLASSPR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00"/>
                </a:solidFill>
                <a:latin typeface="Courier New"/>
              </a:rPr>
              <a:t>0000: 5374617475735465 7874001300536563 6F6E642053746174 7573205465787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00"/>
                </a:solidFill>
                <a:latin typeface="Courier New"/>
              </a:rPr>
              <a:t>0020: 00546F6F6C746970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54657874000F0053 65636F6E6420546F 6F6C746970</a:t>
            </a:r>
            <a:r>
              <a:rPr b="1" lang="de-DE" sz="1400" spc="-1" strike="noStrike">
                <a:solidFill>
                  <a:srgbClr val="ffff00"/>
                </a:solidFill>
                <a:latin typeface="Courier New"/>
              </a:rPr>
              <a:t>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00"/>
                </a:solidFill>
                <a:latin typeface="Courier New"/>
              </a:rPr>
              <a:t>0040: 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00"/>
                </a:solidFill>
                <a:latin typeface="Courier New"/>
              </a:rPr>
              <a:t>.enddata</a:t>
            </a:r>
            <a:r>
              <a:rPr b="1" lang="de-DE" sz="1400" spc="-1" strike="noStrike">
                <a:solidFill>
                  <a:srgbClr val="ffff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2084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2. Information in the instance in hex format, the red text is—for example—our tooltip text </a:t>
            </a:r>
            <a:r>
              <a:rPr b="0" i="1" lang="de-DE" sz="2000" spc="-1" strike="noStrike">
                <a:solidFill>
                  <a:srgbClr val="ff3300"/>
                </a:solidFill>
                <a:latin typeface="Verdana"/>
              </a:rPr>
              <a:t>Second Toolt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29718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1. Information in the class (reference to editor, menu text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E1082-8590-4E76-B47E-99D5141690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Overview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What is the CDK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Interfa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Outline Interfa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Runtime Inspector Interfa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Notification Interfa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SAL-CDK vs. C++-CD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View on SAL-CD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View on C++-CD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Samp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83018-9BC5-4564-ACB6-BA2BC11E27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ffff00"/>
                </a:solidFill>
                <a:latin typeface="Verdana"/>
              </a:rPr>
              <a:t>DEMO</a:t>
            </a:r>
            <a:endParaRPr b="1" lang="en-US" sz="66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05" name="beavis16" descr=""/>
          <p:cNvPicPr/>
          <p:nvPr/>
        </p:nvPicPr>
        <p:blipFill>
          <a:blip r:embed="rId1"/>
          <a:stretch/>
        </p:blipFill>
        <p:spPr>
          <a:xfrm>
            <a:off x="3562200" y="2895480"/>
            <a:ext cx="2000520" cy="272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07ACF-7D77-474E-BFA2-453B91DFEA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mple 2: Notify 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is sample comes with the CDK samples and shows in a very simple way, how the notify interface can be u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First we install it as a new user too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29200" y="2819520"/>
            <a:ext cx="3543480" cy="3809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2819520"/>
            <a:ext cx="4800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e name of the program is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Notify.exe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and it is called using the parameter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$Outline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, which passes a handle of the current outline item to the called program (more information about parameters in the docu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36D5B-FA5A-4A8A-9232-BE0EA4D77B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mple 2: Notify I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When the program is called, two windows are opened which show every notification about the manipulation of the code and all inserted and pasted items, respective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951280" y="2006640"/>
            <a:ext cx="6040440" cy="4357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04920" y="2682720"/>
            <a:ext cx="4019400" cy="211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3774960" cy="238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6964F-A8CC-42AA-A443-DF7BB27CB7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mple 2: Notify II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e windows are of type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cdkNotifyForm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, a window class, whic is defined in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tlnotify.ap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Using the function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SalOutlineAddNotifyWindow()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a windows is registered to receive the ev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is window receives the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SAM_ToolNotify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message on every ev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wParam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contains information about the event group (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TNG_* 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constants) and about the event (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TNE_*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constant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In case of an edit event, you can use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lParam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SalOutlineGetNotifyItem()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o identify the item and use the abstract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Notify*() 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functions to rea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D30A-55BF-41D9-8A58-36D3024DA9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ffff00"/>
                </a:solidFill>
                <a:latin typeface="Verdana"/>
              </a:rPr>
              <a:t>DEMO</a:t>
            </a:r>
            <a:endParaRPr b="1" lang="en-US" sz="66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18" name="beavis16" descr=""/>
          <p:cNvPicPr/>
          <p:nvPr/>
        </p:nvPicPr>
        <p:blipFill>
          <a:blip r:embed="rId1"/>
          <a:stretch/>
        </p:blipFill>
        <p:spPr>
          <a:xfrm>
            <a:off x="3562200" y="2895480"/>
            <a:ext cx="2000520" cy="272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A7AFC-7BB0-490B-B281-CDB06296D8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mple 3: Modify Code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SAL code can directly be modified using a prog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is can be done </a:t>
            </a:r>
            <a:r>
              <a:rPr b="0" i="1" lang="de-DE" sz="2400" spc="-1" strike="noStrike">
                <a:solidFill>
                  <a:srgbClr val="ffffff"/>
                </a:solidFill>
                <a:latin typeface="Verdana"/>
              </a:rPr>
              <a:t>online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(out of the current program) i. e. while you edit, another application adds code (like IntelliSa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Alternatively you can open a SAL file, locate code items, read, write, modify, delete the items and write the changes back to the f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03606-5ACE-4DE4-BF15-D4EBE7C8CC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1240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ff00"/>
                </a:solidFill>
                <a:latin typeface="Verdana"/>
              </a:rPr>
              <a:t>Commercial Break</a:t>
            </a:r>
            <a:endParaRPr b="1" lang="en-US" sz="6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2F672-9CA5-4CF4-9FBC-D7D601318C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mple 3: Comments 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Using </a:t>
            </a:r>
            <a:r>
              <a:rPr b="0" lang="de-DE" sz="2400" spc="-1" strike="noStrike">
                <a:solidFill>
                  <a:srgbClr val="ffff00"/>
                </a:solidFill>
                <a:latin typeface="Verdana"/>
              </a:rPr>
              <a:t>IntelliDoc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it is possible to extract comments from a SAL file and write them out in a structured HTML format. Obviously these comments are read using the CD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Additionally you can edit these comments in </a:t>
            </a:r>
            <a:r>
              <a:rPr b="0" lang="de-DE" sz="2400" spc="-1" strike="noStrike">
                <a:solidFill>
                  <a:srgbClr val="ffff00"/>
                </a:solidFill>
                <a:latin typeface="Verdana"/>
              </a:rPr>
              <a:t>IntelliDoc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(or even add new on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In the sample (a simplified version of an  </a:t>
            </a:r>
            <a:r>
              <a:rPr b="0" lang="de-DE" sz="2400" spc="-1" strike="noStrike">
                <a:solidFill>
                  <a:srgbClr val="ffff00"/>
                </a:solidFill>
                <a:latin typeface="Verdana"/>
              </a:rPr>
              <a:t>IntelliDoc 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function), a comment is added to one parameter of a function, while the comment of the second parameter is modifi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BTW: </a:t>
            </a:r>
            <a:r>
              <a:rPr b="0" lang="de-DE" sz="2400" spc="-1" strike="noStrike">
                <a:solidFill>
                  <a:srgbClr val="ffff00"/>
                </a:solidFill>
                <a:latin typeface="Verdana"/>
              </a:rPr>
              <a:t>IntelliDoc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can be found on the Ice Tea Group web site at </a:t>
            </a:r>
            <a:r>
              <a:rPr b="1" lang="de-DE" sz="2400" spc="-1" strike="noStrike">
                <a:solidFill>
                  <a:srgbClr val="3333cc"/>
                </a:solidFill>
                <a:latin typeface="Courier New"/>
              </a:rPr>
              <a:t>www.iceteagroup.co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31B2B-3616-436F-885C-75CAB50C42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31240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fff00"/>
                </a:solidFill>
                <a:latin typeface="Verdana"/>
              </a:rPr>
              <a:t>Back to presentation</a:t>
            </a:r>
            <a:endParaRPr b="1" lang="en-US" sz="5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27D06-C3EA-445A-9FD4-9B48B00775E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mple 3: Comments I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Function: Fo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escription: This function is modfied using the CD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*Returns: TRUE if successful, FALSE if an error occur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Retur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Boolean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Parameter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tring: sParameter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tring: sParameter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original comment of parameter 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tatic Variabl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Local variabl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Acti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581280" y="2971800"/>
            <a:ext cx="6098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58880" y="275760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A comment is added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352320" y="3809520"/>
            <a:ext cx="546120" cy="44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5120" y="403848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This comment is mod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DDDC1-086A-4886-863C-AED2160219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What is the CDK?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e CDK is an object-oriented library that enables the user to work with and manipulate the whole environment and code of SQLWindow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e CDK must be installed additional via the Enterprise Op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e CDK comes in two flavors, a SAL version and a C++ version which provide basically the same functionality but differ in certain topics (as we will see later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Note! The source code of the C++ version is not delivered with the product anymore (since CTD2000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9631E-40DF-478A-A680-468E74526D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mple 3: Comments II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Local variable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dkItem: aDescrip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dkFunction: aFunc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Action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open the fi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If CDK_App.InitFromFile( "Example3Client.app"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get function object, we know the name in this examp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If CDK_App.GetFunction( "Foo", aFunction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et sName = aFunction.GetText(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all aFunction.GetReturnType( sRet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get description of func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If aFunction.GetFirstChild( aDescription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et sDesc = aDescription.GetText(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read parameter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et nParameters = aFunction.EnumParametersAndComments(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  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aParams, saTypes, saParamComments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14300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Read the function and parameters, funktion was simpl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66CDD-D7BF-4465-B70F-BAACF52A9F2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mple 3: Comments IV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10200" y="2162160"/>
            <a:ext cx="3805200" cy="38577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e data can be shown and edited in a simple dialo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981080"/>
            <a:ext cx="4724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If the change was done, the data is written back to the application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4751280"/>
            <a:ext cx="5029200" cy="12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tring: sParamete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new parameter com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tring: sParamete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Modified comment of paramete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3771360" y="2704680"/>
            <a:ext cx="914400" cy="2667240"/>
          </a:xfrm>
          <a:custGeom>
            <a:avLst/>
            <a:gdLst>
              <a:gd name="textAreaLeft" fmla="*/ 122400 w 914400"/>
              <a:gd name="textAreaRight" fmla="*/ 792000 w 914400"/>
              <a:gd name="textAreaTop" fmla="*/ 466560 h 2667240"/>
              <a:gd name="textAreaBottom" fmla="*/ 193392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BF769-589F-4360-979E-31711B6A544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mple 3: Comments V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Courier New"/>
              </a:rPr>
              <a:t>! search for ite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If CDK_App.GetFunction( "Foo", aFunction 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b2b2b2"/>
                </a:solidFill>
                <a:latin typeface="Courier New"/>
              </a:rPr>
              <a:t>! Enumerate parameters (workaround, no such function exists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Call CDKEnumObjectHandles( aFunction.m_hOutline , aFunction.m_hItem 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CDK_IT_Parameters , oParams 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b2b2b2"/>
                </a:solidFill>
                <a:latin typeface="Courier New"/>
              </a:rPr>
              <a:t>! now loop thru all the parameter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Set nI = 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While nI &lt; nParameter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If oParams[nI].GetFirstChild( aComment 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b2b2b2"/>
                </a:solidFill>
                <a:latin typeface="Courier New"/>
              </a:rPr>
              <a:t>! yes, just change the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Call aComment.SetText( saParamCom[nI] 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b2b2b2"/>
                </a:solidFill>
                <a:latin typeface="Courier New"/>
              </a:rPr>
              <a:t>! no, append new comment ite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If oParams[nI].AppendItem( oParams[nI], CDK_IT_Comment, aComment 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b2b2b2"/>
                </a:solidFill>
                <a:latin typeface="Courier New"/>
              </a:rPr>
              <a:t>! set text for com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Call aComment.SetText( saParamCom[nI] 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Set nI = nI + 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Courier New"/>
              </a:rPr>
              <a:t>! Save changes and release fi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Call CDK_App.SaveOutline( "Example3Client.app" 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Call CDK_App.CloseApp(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066680"/>
            <a:ext cx="838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Note! Code was simplified for readabilit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BE38E-6631-43B8-B636-6693CC7226C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ffff00"/>
                </a:solidFill>
                <a:latin typeface="Verdana"/>
              </a:rPr>
              <a:t>DEMO</a:t>
            </a:r>
            <a:endParaRPr b="1" lang="en-US" sz="66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44" name="beavis16" descr=""/>
          <p:cNvPicPr/>
          <p:nvPr/>
        </p:nvPicPr>
        <p:blipFill>
          <a:blip r:embed="rId1"/>
          <a:stretch/>
        </p:blipFill>
        <p:spPr>
          <a:xfrm>
            <a:off x="3562200" y="2895480"/>
            <a:ext cx="2000520" cy="272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D1F7D-B403-4685-A401-B0DDB33B5A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mple 4: Read All Lines 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is function is needed very oft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Can for example be used for extraction of texts, certain code components (debug cod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No recursion is necessary, the function is much more easier than you would exp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AD932-BFD1-4660-8D87-580C591BDF8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mple 4: Read All Lines I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143000"/>
            <a:ext cx="86108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If CDK_App.InitFromFile( p_sFile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start at the 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all CDK_App.GetTopItem( aItem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refresh the included libraries (needed if text mo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all CDK_App.RefreshLibraries(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get the outline and item hand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et nOutline = aItem.GetOutlin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et nItem = aItem.GetItem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as long as there is an 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While nItem &gt;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Initialize the 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all aItem.Initialize( nOutline, nItem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get the type of the item (CDK_IT_CommentCont self-defin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et nType = aItem.GetItemType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If Not aItem.IsReadOnly() And nType != CDK_IT_Comment 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And nType != CDK_IT_CommentCont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And nType != CDK_IT_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! Now you can do something here with the 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get the next item, undocumented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et nItem = SalOutlineNextLine( nOutline, nItem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2FF27-4882-4EB5-BD8A-C005A428704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ffff00"/>
                </a:solidFill>
                <a:latin typeface="Verdana"/>
              </a:rPr>
              <a:t>DEMO</a:t>
            </a:r>
            <a:endParaRPr b="1" lang="en-US" sz="66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50" name="beavis16" descr=""/>
          <p:cNvPicPr/>
          <p:nvPr/>
        </p:nvPicPr>
        <p:blipFill>
          <a:blip r:embed="rId1"/>
          <a:stretch/>
        </p:blipFill>
        <p:spPr>
          <a:xfrm>
            <a:off x="3562200" y="2895480"/>
            <a:ext cx="2000520" cy="272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8EE8B-FC1B-495A-9440-B3BEADE6CA2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mple 5: C++ Sample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Use of the design patterns </a:t>
            </a:r>
            <a:r>
              <a:rPr b="0" i="1" lang="de-DE" sz="2400" spc="-1" strike="noStrike">
                <a:solidFill>
                  <a:srgbClr val="ffffff"/>
                </a:solidFill>
                <a:latin typeface="Verdana"/>
              </a:rPr>
              <a:t>Iterator 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0" i="1" lang="de-DE" sz="2400" spc="-1" strike="noStrike">
                <a:solidFill>
                  <a:srgbClr val="ffffff"/>
                </a:solidFill>
                <a:latin typeface="Verdana"/>
              </a:rPr>
              <a:t>Visitor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for searching text in the c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Sample provided by Frank „</a:t>
            </a:r>
            <a:r>
              <a:rPr b="0" i="1" lang="de-DE" sz="2400" spc="-1" strike="noStrike">
                <a:solidFill>
                  <a:srgbClr val="ffffff"/>
                </a:solidFill>
                <a:latin typeface="Verdana"/>
              </a:rPr>
              <a:t>IntelliSal“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Böttc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efinitions of the used design pattern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erator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 iterator provides a way to access the elements of an aggregate object sequentially without exposing it’s underlying repres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si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presents an operation to be performed on the elements of an object structure. A visitor lets you define a new operation without changing the classes of the elements on which it operat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5AC0-6E07-420F-B8C8-A57A1ABE80C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mple 5: Text Search 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e definition of the visitor for a commen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class CGCommentVisitor : public CGVisito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CString sSearch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void Visit( CGItem &amp;Item 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CGCommentVisitor( CString spSearch 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virtual ~CGCommentVisitor(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D458E-E94C-4538-9AA4-4899FBFF6B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mple 5: Text Search I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e Implementation of the cla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GCommentVisitor::CGCommentVisitor( CString spSearch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Search = spSearch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// This is called for every "visit", Set m_Done to TRUE to "stay"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void CGCommentVisitor::Visit( CGItem &amp;Item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{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m_Done = FALSE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// get some information about the ite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BOOL bComment = Item.GetItemType() == kIT_Comment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String sText = Item.GetTitle() + " " + Item.GetText(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// in this sample, we are searching for a text in a comment onl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if ( bComment &amp;&amp; sText.Find( sSearch ) &gt; -1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m_Done = TRUE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GVisitor::Visit( Item 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859CE-7FAF-42FE-84A4-3B28B6A173E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Ok, But What Can I Do With It?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You can use it f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Tools for programm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Compon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Modifications of the development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Automatic code gen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Yes, there will be samples, be patient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24376-229F-40F1-A6B7-D0FF2E696B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mple 5: Text Search II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e search, here: search from to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// create a new visit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GCommentVisitor Visitor( sParameters 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GApplication App( hOutline 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// start with top_ite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GItem Start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App.GetTopItem( Start 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// create an iterator that checks each ite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GOutlineIterator OutlineIterator( Visitor, Start, FALSE 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while ( OutlineIterator.Iterate()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// when its visitor breaks we found something, item is curr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String sFound = OutlineIterator.CurrentItem().GetTitle() + " "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+ OutlineIterator.CurrentItem().GetText(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MessageBox ( NULL, sFound, "OutlineIterator", MB_OK 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2D9AF-0EE0-439E-9673-30526C3E8D7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Sample 5: Text Search IV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e search, three searches after anot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Find the first comment containing the search text starting with the Top Level I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Find the first comment containing the search text, starting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from the currently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marked outline i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Find the first item of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any type containing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e search text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starting from th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currently marked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outline i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267080" y="3500280"/>
            <a:ext cx="4621320" cy="2679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34120" y="1905120"/>
            <a:ext cx="2133360" cy="2666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2743200"/>
            <a:ext cx="2895480" cy="3200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4572000"/>
            <a:ext cx="2971800" cy="1219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4CF0B-7280-4B52-A8C8-C4DC2CB2C8B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ffff00"/>
                </a:solidFill>
                <a:latin typeface="Verdana"/>
              </a:rPr>
              <a:t>DEMO</a:t>
            </a:r>
            <a:endParaRPr b="1" lang="en-US" sz="66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66" name="beavis16" descr=""/>
          <p:cNvPicPr/>
          <p:nvPr/>
        </p:nvPicPr>
        <p:blipFill>
          <a:blip r:embed="rId1"/>
          <a:stretch/>
        </p:blipFill>
        <p:spPr>
          <a:xfrm>
            <a:off x="3562200" y="2895480"/>
            <a:ext cx="2000520" cy="272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E777A-480B-40CF-BF74-FEE73528D8B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Wrapping It Up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e CDK is a valuable possibility to program enhancements and too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on't get mad, when you encounter weird problems that cannot be explained. There are bugs but also workarounds (Newsgroups!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Learn from the CDK samples that come with the produ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Use IntelliSal for learning since there are literally hundreds of functions with partly different naming conventions, which is sometimes confus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6CCF6-87B4-49E6-9B46-439B2D31A12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Q &amp; A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Verdana"/>
              </a:rPr>
              <a:t>Any Questions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1308600" y="4597560"/>
            <a:ext cx="66103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It’s the question that drives us, N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Trinity, The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A7643-69ED-4C4B-8F8C-29394899637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CDK Interfaces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ere are three interfaces for the CD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Outline Interf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Runtime Inspector Interf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Notification Interf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B328B-9457-4C3E-9B4B-410232FD24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Outline Interface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Classes and functions for manipulating SQLWindows progra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You need to have a general knowledge of SQLWindows programs, the outline, how it looks like, that 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You can both read and write the c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You can modify, add, delete code ele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Uses: code generators, documentation tools, text extraktors, et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827DC-B847-4476-952E-31B2ACC1A9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Runtime Inspector Interface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With this interface you can check and manipulate the status and properties of item at runti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Possibility to log and trace all statements without additional debug statements in the c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Uses are: debugging, trace tools, profiler, et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ere are already lots of tools like above on the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BA3DE-ED27-49CC-BB54-18180BDCE5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Notification Interface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his interface enables a program to be informed via events, when the outline focus is changed or any manipulation (delete, change, add, etc.) of the outline is ma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If such an event is fired, you can react on it and—for example— use the outline interface to add code or something el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Most famous example for this interface is IntelliSal, that reacts on your actions in the outline and adds code for yo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893D1-4D8F-4972-94A9-27F033EF60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CDK Structure Non-Visual Classes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The object hierarchy of the non-visual clas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The class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cdkItem</a:t>
            </a: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 contains all base func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The derived classes contain all special functions and some overloaded functions for the actual obje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For example, the class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cdkConstant</a:t>
            </a: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 contains the functions</a:t>
            </a:r>
            <a:br>
              <a:rPr sz="2200"/>
            </a:b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SetConstValue()</a:t>
            </a: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GetConstValue(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705200" y="914400"/>
          <a:ext cx="40579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5200" y="914400"/>
                    <a:ext cx="40579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E9473-4A1D-452E-B8A8-DC56DF81B2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18:42:53Z</dcterms:created>
  <dc:creator>Sven O. Rimmelspacher</dc:creator>
  <dc:description/>
  <dc:language>en-US</dc:language>
  <cp:lastModifiedBy>Sven O. Rimmelspacher</cp:lastModifiedBy>
  <dcterms:modified xsi:type="dcterms:W3CDTF">2001-11-20T18:40:48Z</dcterms:modified>
  <cp:revision>55</cp:revision>
  <dc:subject>Eine kurze Einführung</dc:subject>
  <dc:title>CDK  Component Developer's Kit</dc:title>
</cp:coreProperties>
</file>